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6.png" ContentType="image/png"/>
  <Override PartName="/ppt/media/image20.jpeg" ContentType="image/jpeg"/>
  <Override PartName="/ppt/media/image12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14.jpeg" ContentType="image/jpeg"/>
  <Override PartName="/ppt/media/image30.gif" ContentType="image/gif"/>
  <Override PartName="/ppt/media/image8.png" ContentType="image/png"/>
  <Override PartName="/ppt/media/image29.gif" ContentType="image/gif"/>
  <Override PartName="/ppt/media/image9.png" ContentType="image/png"/>
  <Override PartName="/ppt/media/image5.png" ContentType="image/png"/>
  <Override PartName="/ppt/media/image33.gif" ContentType="image/gif"/>
  <Override PartName="/ppt/media/image13.jpeg" ContentType="image/jpeg"/>
  <Override PartName="/ppt/media/image4.png" ContentType="image/png"/>
  <Override PartName="/ppt/media/image3.png" ContentType="image/png"/>
  <Override PartName="/ppt/media/image23.gif" ContentType="image/gif"/>
  <Override PartName="/ppt/media/image2.jpeg" ContentType="image/jpeg"/>
  <Override PartName="/ppt/media/image16.jpeg" ContentType="image/jpeg"/>
  <Override PartName="/ppt/media/image17.png" ContentType="image/png"/>
  <Override PartName="/ppt/media/image32.gif" ContentType="image/gif"/>
  <Override PartName="/ppt/media/image19.jpeg" ContentType="image/jpeg"/>
  <Override PartName="/ppt/media/image10.jpeg" ContentType="image/jpeg"/>
  <Override PartName="/ppt/media/image21.gif" ContentType="image/gif"/>
  <Override PartName="/ppt/media/image31.gif" ContentType="image/gif"/>
  <Override PartName="/ppt/media/image24.png" ContentType="image/png"/>
  <Override PartName="/ppt/media/image11.jpeg" ContentType="image/jpeg"/>
  <Override PartName="/ppt/media/image22.gif" ContentType="image/gif"/>
  <Override PartName="/ppt/media/image18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87A-696E-4D5A-A7AD-32D27198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B56-DCE8-433A-A6E4-46F247FE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3C0-2B89-4586-AF1E-81CA5071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D94E-C845-4AC3-9F8F-C7F5EEFF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5118-2898-4186-BD12-D3976746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063A-FFAF-4F15-A51C-CBEF8D5B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3984-3308-412C-A397-885F00A6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4B6E-7464-48EC-9F5C-506D4E3F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F0D8-787F-41A8-B395-39A79811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B5B0-52AC-430A-98DB-1D718D0B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AF2C-F947-44F1-9199-09F2D1E3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396-C919-46A3-A237-A69A9103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37BD-5A07-4739-BEA8-BE74398B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6714-49BF-4D70-96CF-69282B66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DCB1-E0B1-49A5-B27B-EAA51DB7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D3BD-7AB0-4C8D-AE3B-F1179FBC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1305-D17F-4401-AAB7-57F7E49F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71D-4A3A-48B9-A5BF-C857F9DC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B30-4278-4119-9D57-C223C7EB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579-6DC3-4855-A2A4-08B57421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BE8-C549-4CDA-872F-26E73218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8D1-1B5A-40A7-AB05-7B47FE38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955-2CD7-4F11-AAF1-1E6E5736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5F2-7659-4CEA-A9EC-B0A5AA95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DD77-3546-4488-8C16-AE997B47DE9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9240-1D22-4E2E-AE0A-194E5F16E95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genmagic.net/fisica/humi1c.swf" TargetMode="External"/><Relationship Id="rId3" Type="http://schemas.openxmlformats.org/officeDocument/2006/relationships/image" Target="../media/image15.png"/><Relationship Id="rId4" Type="http://schemas.openxmlformats.org/officeDocument/2006/relationships/hyperlink" Target="http://es.wikipedia.org/wiki/Higr&#243;metro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iesaguilarycano.com/dpto/fyq/presion.swf" TargetMode="External"/><Relationship Id="rId3" Type="http://schemas.openxmlformats.org/officeDocument/2006/relationships/hyperlink" Target="http://www.sagan-gea.org/hojared%20aire/pagina/A%20barometro.swf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naturaleseso1.blogspot.com/2009/11/el-experimento-de-torricelli.html" TargetMode="External"/><Relationship Id="rId6" Type="http://schemas.openxmlformats.org/officeDocument/2006/relationships/image" Target="../media/image17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es.wikipedia.org/wiki/Pluvi&#243;metro" TargetMode="External"/><Relationship Id="rId3" Type="http://schemas.openxmlformats.org/officeDocument/2006/relationships/hyperlink" Target="http://centros3.pntic.mec.es/cp.la.canal/clima/experim.htm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energy-spain.com/assets/flash/energia-eolica.swf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images.google.es/imgres?imgurl=http://lunatica.files.wordpress.com/2007/11/veleta.jpg&amp;imgrefurl=http://lunatica.wordpress.com/2007/11/13/offline/&amp;usg=__0td11CW4gxdUtmVo13mXPlPyoFs=&amp;h=230&amp;w=250&amp;sz=12&amp;hl=es&amp;start=1&amp;itbs=1&amp;tbnid=n1JGf-W64NndTM:&amp;tbnh=102&amp;tbnw=111&amp;prev=/images%3Fq%3Dveleta%26hl%3Des%26sa%3DG%26gbv%3D2%26tbs%3Disch:1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www.ikkaro.com/construir-anemometro" TargetMode="External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gif"/><Relationship Id="rId3" Type="http://schemas.openxmlformats.org/officeDocument/2006/relationships/hyperlink" Target="http://es.wikipedia.org/wiki/Arco_iris" TargetMode="External"/><Relationship Id="rId4" Type="http://schemas.openxmlformats.org/officeDocument/2006/relationships/image" Target="../media/image24.png"/><Relationship Id="rId5" Type="http://schemas.openxmlformats.org/officeDocument/2006/relationships/hyperlink" Target="http://images.google.es/imgres?imgurl=http://img138.imageshack.us/img138/5776/auroraboreal.jpg&amp;imgrefurl=http://ojozeus.blogspot.com/2009_12_01_archive.html&amp;usg=__aj_7RIoa2CKP4RyytjzOqgwGN6Q=&amp;h=560&amp;w=700&amp;sz=38&amp;hl=es&amp;start=3&amp;um=1&amp;itbs=1&amp;tbnid=YO3sjXAav6ZC3M:&amp;tbnh=112&amp;tbnw=140&amp;prev=/images%3Fq%3Dgif%2Banimado%2Baurora%2Bboreal%26um%3D1%26hl%3Des%26sa%3DN%26tbs%3Disch:1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google.es/imgres?imgurl=http://img.xatakafoto.com/2007/10/800px-Polarlicht_2.jpg&amp;imgrefurl=http://www.xatakafoto.com/trucos-y-consejos/fotografiar-la-aurora-boreal&amp;usg=__tYCH0DAVCF8Sz1F4zQM55Tf69n8=&amp;h=273&amp;w=420&amp;sz=20&amp;hl=es&amp;start=4&amp;um=1&amp;itbs=1&amp;tbnid=eeLQiWeG0N0fMM:&amp;tbnh=81&amp;tbnw=125&amp;prev=/images%3Fq%3Dgif%2Banimado%2Baurora%2Bboreal%26um%3D1%26hl%3Des%26sa%3DN%26tbs%3Disch:1" TargetMode="External"/><Relationship Id="rId8" Type="http://schemas.openxmlformats.org/officeDocument/2006/relationships/image" Target="../media/image26.jpeg"/><Relationship Id="rId9" Type="http://schemas.openxmlformats.org/officeDocument/2006/relationships/hyperlink" Target="http://images.google.es/imgres?imgurl=http://1.bp.blogspot.com/_b2CR704OENE/Ssa9-k9qZuI/AAAAAAAAGJQ/Epa4FT4YfgM/s400/aurora-boreal-polo-norte-finlandia.jpg&amp;imgrefurl=http://harshies.blogspot.com/2009/10/mitos-sobre-la-reencarnacion-en-siberia.html&amp;usg=__Lde-W3WoUfYAVATuOq4W1uU3DcU=&amp;h=300&amp;w=400&amp;sz=13&amp;hl=es&amp;start=6&amp;um=1&amp;itbs=1&amp;tbnid=9qMS_QwYHPL1tM:&amp;tbnh=93&amp;tbnw=124&amp;prev=/images%3Fq%3Dgif%2Banimado%2Baurora%2Bboreal%26um%3D1%26hl%3Des%26sa%3DN%26tbs%3Disch:1" TargetMode="External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4.xml"/><Relationship Id="rId7" Type="http://schemas.openxmlformats.org/officeDocument/2006/relationships/slide" Target="slide3.xm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hyperlink" Target="http://www.elmundo.es/elmundo/2001/graficos/abril/semana3/calentamiento.swf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educa.madrid.org/web/ies.ginerdelosrios.alcobendas/departamentos/cienciasnaturales/2bach/geolo/1ciclo/patatas1ciclo/pagweb_1/atmosfera_1.htm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ngenieria.uaslp.mx/Recursos/Animaciones/capa_ozono.swf" TargetMode="External"/><Relationship Id="rId5" Type="http://schemas.openxmlformats.org/officeDocument/2006/relationships/hyperlink" Target="http://www.elpais.com/elpaismedia/ultimahora/media/200608/11/sociedad/20060811elpepusoc_1_Ges_SWF.swf" TargetMode="External"/><Relationship Id="rId6" Type="http://schemas.openxmlformats.org/officeDocument/2006/relationships/hyperlink" Target="http://www.youtube.com/watch?v=Dzkqd9oPiZM" TargetMode="External"/><Relationship Id="rId7" Type="http://schemas.openxmlformats.org/officeDocument/2006/relationships/hyperlink" Target="http://www.youtube.com/watch?v=Dzkqd9oPiZM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recursos.cnice.mec.es/biosfera/profesor/recursos_animaciones15.htm" TargetMode="External"/><Relationship Id="rId3" Type="http://schemas.openxmlformats.org/officeDocument/2006/relationships/hyperlink" Target="http://www.espere.net/movies/ChapmanS.swf" TargetMode="External"/><Relationship Id="rId4" Type="http://schemas.openxmlformats.org/officeDocument/2006/relationships/hyperlink" Target="http://www.educarchile.cl/Portal.Base/Web/VerContenido.aspx?GUID=144bd124-c9c0-4f47-8bcd-1d954a297edf&amp;ID=136141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aemet.es/es/portada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meteosat.com/" TargetMode="External"/><Relationship Id="rId5" Type="http://schemas.openxmlformats.org/officeDocument/2006/relationships/image" Target="../media/image12.png"/><Relationship Id="rId6" Type="http://schemas.openxmlformats.org/officeDocument/2006/relationships/hyperlink" Target="http://www.contraclave.org/mambiente/biomas.swf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centros5.pntic.mec.es/ies.victoria.kent/Rincon-C/Simulaci/termometro/term.htm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teleformacion.edu.aytolacoruna.es/AYC/document/atmosfera_y_clima/temperatura/tempmaxMin.htm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2057040"/>
            <a:ext cx="45720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0033"/>
                </a:solidFill>
                <a:latin typeface="Times New Roman"/>
              </a:rPr>
              <a:t>La atmósfera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495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705720" y="5029200"/>
            <a:ext cx="99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7620120" y="51055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8001000" y="228600"/>
            <a:ext cx="9144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logoIES"/>
          <p:cNvPicPr/>
          <p:nvPr/>
        </p:nvPicPr>
        <p:blipFill>
          <a:blip r:embed="rId1"/>
          <a:stretch/>
        </p:blipFill>
        <p:spPr>
          <a:xfrm>
            <a:off x="7086600" y="0"/>
            <a:ext cx="933480" cy="4935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5"/>
          <p:cNvSpPr/>
          <p:nvPr/>
        </p:nvSpPr>
        <p:spPr>
          <a:xfrm>
            <a:off x="838080" y="4876920"/>
            <a:ext cx="1752840" cy="304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7772400" y="914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457200" y="1371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5.- TIEMPO ATMOSFÉ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rId1" action="ppaction://hlinksldjump"/>
          </p:cNvPr>
          <p:cNvSpPr/>
          <p:nvPr/>
        </p:nvSpPr>
        <p:spPr>
          <a:xfrm rot="10639800">
            <a:off x="7466760" y="10663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914400" y="1905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HUM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1371600" y="22096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ntidad de vapor de agua que hay en la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1219320" y="2590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HUMEDAD ABSOL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1981080" y="29718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ntidad de vapor de agua( g) en un volumen  ( l o  m   )de 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7772400" y="2895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1143000" y="34434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HUMEDAD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1981080" y="38098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centaje de humedad sobre el total absoluto  a determinada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4419720"/>
            <a:ext cx="2514600" cy="1915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23"/>
          <p:cNvSpPr/>
          <p:nvPr/>
        </p:nvSpPr>
        <p:spPr>
          <a:xfrm>
            <a:off x="838080" y="4800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IGR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762120" y="52578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parato con el que se mide la humedad atmosf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9" descr="logoIES"/>
          <p:cNvPicPr/>
          <p:nvPr/>
        </p:nvPicPr>
        <p:blipFill>
          <a:blip r:embed="rId5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7772400" y="9144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457200" y="1371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5.- TIEMPO ATMOSFÉ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>
            <a:hlinkClick r:id="rId1" action="ppaction://hlinksldjump"/>
          </p:cNvPr>
          <p:cNvSpPr/>
          <p:nvPr/>
        </p:nvSpPr>
        <p:spPr>
          <a:xfrm rot="10639800">
            <a:off x="7466760" y="990720"/>
            <a:ext cx="381240" cy="380880"/>
          </a:xfrm>
          <a:custGeom>
            <a:avLst/>
            <a:gdLst>
              <a:gd name="textAreaLeft" fmla="*/ 47520 w 381240"/>
              <a:gd name="textAreaRight" fmla="*/ 33372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914400" y="1905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PRESIÓN ATMOSF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1371600" y="2286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el valor de la presión (fuerza por unidad de superficie) ejercida por los gases que forman la atmósf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1371600" y="29718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 valor depende de la altitud y la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1447920" y="342900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 medida por Torr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1828800" y="38862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 at = 760 mm Hg = 101.325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1447920" y="44197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mide con el BAR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5" descr="construye%2Bun%2Bbar%C3%B3metr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472428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26"/>
          <p:cNvSpPr/>
          <p:nvPr/>
        </p:nvSpPr>
        <p:spPr>
          <a:xfrm>
            <a:off x="6248520" y="426708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STRUYE TU BARÓME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8" descr="experiencia_Torricell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7920" y="4800600"/>
            <a:ext cx="2666880" cy="15336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9"/>
          <p:cNvSpPr/>
          <p:nvPr/>
        </p:nvSpPr>
        <p:spPr>
          <a:xfrm>
            <a:off x="1676520" y="624852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erimento de Torric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7772040" y="762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2" descr="logoIES"/>
          <p:cNvPicPr/>
          <p:nvPr/>
        </p:nvPicPr>
        <p:blipFill>
          <a:blip r:embed="rId7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7772400" y="99072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57200" y="1371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5.- TIEMPO ATMOSFÉ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>
            <a:hlinkClick r:id="rId1" action="ppaction://hlinksldjump"/>
          </p:cNvPr>
          <p:cNvSpPr/>
          <p:nvPr/>
        </p:nvSpPr>
        <p:spPr>
          <a:xfrm rot="10639800">
            <a:off x="7466760" y="990720"/>
            <a:ext cx="381240" cy="380880"/>
          </a:xfrm>
          <a:custGeom>
            <a:avLst/>
            <a:gdLst>
              <a:gd name="textAreaLeft" fmla="*/ 47520 w 381240"/>
              <a:gd name="textAreaRight" fmla="*/ 33372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533520" y="1752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RECIPI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609480" y="2286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Es el agua caída en un lugar y en un tiempo determinado ya sea en forma de nieve, lluvia o grani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762120" y="320040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cantidad de precipitación se registra con el </a:t>
            </a:r>
            <a:br>
              <a:rPr sz="2000"/>
            </a:b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  </a:t>
            </a:r>
            <a:r>
              <a:rPr b="0" lang="es-ES" sz="2000" spc="-1" strike="noStrike" u="sng">
                <a:solidFill>
                  <a:srgbClr val="990033"/>
                </a:solidFill>
                <a:uFillTx/>
                <a:latin typeface="Verdana"/>
                <a:hlinkClick r:id="rId2"/>
              </a:rPr>
              <a:t>PLUVIÓ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1" descr="pluvi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3505320"/>
            <a:ext cx="1828800" cy="26668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2"/>
          <p:cNvSpPr/>
          <p:nvPr/>
        </p:nvSpPr>
        <p:spPr>
          <a:xfrm>
            <a:off x="762120" y="40384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l pluviómetro la cantidad se registra en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762120" y="49528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da mm  del pluviómetro equivale a  1 litro /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5943600" y="4876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077320" y="762120"/>
            <a:ext cx="7617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7" descr="logoIES"/>
          <p:cNvPicPr/>
          <p:nvPr/>
        </p:nvPicPr>
        <p:blipFill>
          <a:blip r:embed="rId5"/>
          <a:stretch/>
        </p:blipFill>
        <p:spPr>
          <a:xfrm>
            <a:off x="7738920" y="66600"/>
            <a:ext cx="1195560" cy="6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7772400" y="83808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228600" y="1371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5.- TIEMPO ATMOSFÉ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>
            <a:hlinkClick r:id="rId1" action="ppaction://hlinksldjump"/>
          </p:cNvPr>
          <p:cNvSpPr/>
          <p:nvPr/>
        </p:nvSpPr>
        <p:spPr>
          <a:xfrm rot="10639800">
            <a:off x="7466760" y="990720"/>
            <a:ext cx="381240" cy="380880"/>
          </a:xfrm>
          <a:custGeom>
            <a:avLst/>
            <a:gdLst>
              <a:gd name="textAreaLeft" fmla="*/ 47520 w 381240"/>
              <a:gd name="textAreaRight" fmla="*/ 33372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838080" y="1828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V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143000" y="21337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aire que se mueve horizontalmente sobre la superficie terres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1295280" y="2743200"/>
            <a:ext cx="746784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viento está originado por la diferencia de presiones. El 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empre se mueve desde una zona de bajas presiones hacia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ona de altas pre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8" descr="vient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3276720"/>
            <a:ext cx="2085840" cy="1719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9"/>
          <p:cNvSpPr/>
          <p:nvPr/>
        </p:nvSpPr>
        <p:spPr>
          <a:xfrm>
            <a:off x="640080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igen del v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1143000" y="3886200"/>
            <a:ext cx="457200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dirección se reg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la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ve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2" descr="velet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38480" y="3809880"/>
            <a:ext cx="1057320" cy="971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3"/>
          <p:cNvSpPr/>
          <p:nvPr/>
        </p:nvSpPr>
        <p:spPr>
          <a:xfrm>
            <a:off x="990720" y="48006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velocidad  se registra con el </a:t>
            </a:r>
            <a:r>
              <a:rPr b="0" lang="es-ES" sz="20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anemó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5" descr="windguage001.gif (15695 bytes)"/>
          <p:cNvPicPr/>
          <p:nvPr/>
        </p:nvPicPr>
        <p:blipFill>
          <a:blip r:embed="rId7"/>
          <a:stretch/>
        </p:blipFill>
        <p:spPr>
          <a:xfrm>
            <a:off x="6477120" y="5257800"/>
            <a:ext cx="809640" cy="847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7" descr="wet_re10.gif (126115 bytes)"/>
          <p:cNvPicPr/>
          <p:nvPr/>
        </p:nvPicPr>
        <p:blipFill>
          <a:blip r:embed="rId8"/>
          <a:stretch/>
        </p:blipFill>
        <p:spPr>
          <a:xfrm>
            <a:off x="1600200" y="5334120"/>
            <a:ext cx="2209680" cy="14032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924680" y="762120"/>
            <a:ext cx="13716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0" descr="logoIES"/>
          <p:cNvPicPr/>
          <p:nvPr/>
        </p:nvPicPr>
        <p:blipFill>
          <a:blip r:embed="rId9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7391520" y="5334120"/>
            <a:ext cx="761760" cy="380880"/>
          </a:xfrm>
          <a:prstGeom prst="rect">
            <a:avLst/>
          </a:prstGeom>
          <a:solidFill>
            <a:srgbClr val="cce3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7848720" y="838080"/>
            <a:ext cx="167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04920" y="1447920"/>
            <a:ext cx="6553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6.- FENÓMENOS ATMOSFÉ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7">
            <a:hlinkClick r:id="rId1" action="ppaction://hlinksldjump"/>
          </p:cNvPr>
          <p:cNvSpPr/>
          <p:nvPr/>
        </p:nvSpPr>
        <p:spPr>
          <a:xfrm rot="10639800">
            <a:off x="7466760" y="990720"/>
            <a:ext cx="381240" cy="380880"/>
          </a:xfrm>
          <a:custGeom>
            <a:avLst/>
            <a:gdLst>
              <a:gd name="textAreaLeft" fmla="*/ 47520 w 381240"/>
              <a:gd name="textAreaRight" fmla="*/ 33372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762120" y="23623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L ARCO I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838080" y="19051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la atmósfera suceden también fenómenos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838080" y="3657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LAS AUR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990720" y="2590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 el resultado de la descomposición de la luz al refractarse por atravesar las gotas de lluv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3" descr="brocha arcoiris"/>
          <p:cNvPicPr/>
          <p:nvPr/>
        </p:nvPicPr>
        <p:blipFill>
          <a:blip r:embed="rId2"/>
          <a:stretch/>
        </p:blipFill>
        <p:spPr>
          <a:xfrm>
            <a:off x="3429000" y="2971800"/>
            <a:ext cx="952560" cy="1190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Rainbow formation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286000"/>
            <a:ext cx="1677960" cy="21002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5"/>
          <p:cNvSpPr/>
          <p:nvPr/>
        </p:nvSpPr>
        <p:spPr>
          <a:xfrm>
            <a:off x="685800" y="4114800"/>
            <a:ext cx="6019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viento solar ( partículas cargadas eléctricamente) al interactuar con el campo magnético terrestre provoca las auror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urora bore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n el Norte y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urora austr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n el 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6" descr="aurorabore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120" y="5410080"/>
            <a:ext cx="1333440" cy="1067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7" descr="800px-Polarlicht_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09680" y="5410080"/>
            <a:ext cx="1676520" cy="1086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8" descr="aurora-boreal-polo-norte-finlandia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62520" y="5410080"/>
            <a:ext cx="1447560" cy="1086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9" descr="fotos_artico_aurora_boreal"/>
          <p:cNvPicPr/>
          <p:nvPr/>
        </p:nvPicPr>
        <p:blipFill>
          <a:blip r:embed="rId11"/>
          <a:stretch/>
        </p:blipFill>
        <p:spPr>
          <a:xfrm>
            <a:off x="5562720" y="5410080"/>
            <a:ext cx="1600200" cy="10670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20"/>
          <p:cNvSpPr/>
          <p:nvPr/>
        </p:nvSpPr>
        <p:spPr>
          <a:xfrm>
            <a:off x="7391520" y="5334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7924320" y="762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3" descr="logoIES"/>
          <p:cNvPicPr/>
          <p:nvPr/>
        </p:nvPicPr>
        <p:blipFill>
          <a:blip r:embed="rId12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7772400" y="83808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04920" y="1447920"/>
            <a:ext cx="6553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7.- CONTAMINACIÓN ATMOSF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6"/>
          <p:cNvSpPr/>
          <p:nvPr/>
        </p:nvSpPr>
        <p:spPr>
          <a:xfrm rot="10639800">
            <a:off x="7466760" y="990720"/>
            <a:ext cx="381240" cy="380880"/>
          </a:xfrm>
          <a:custGeom>
            <a:avLst/>
            <a:gdLst>
              <a:gd name="textAreaLeft" fmla="*/ 47520 w 381240"/>
              <a:gd name="textAreaRight" fmla="*/ 33372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914400" y="2133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principales causas por las que se contamina el aire atmosférico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914400" y="28335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Los incendios forestale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emiten gran cantidad de CO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1905120" y="3886200"/>
            <a:ext cx="7238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La industri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emiten gran cantidad de CO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óxid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zufre, metales pesados y partículas radioa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762120" y="5029200"/>
            <a:ext cx="7315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Las ciudad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emiten gran cantidad de CO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 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(calefaccio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áfico,..) óxidos de  nitrógeno y azuf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4" descr="Flame-16.gif (45978 bytes)"/>
          <p:cNvPicPr/>
          <p:nvPr/>
        </p:nvPicPr>
        <p:blipFill>
          <a:blip r:embed="rId1"/>
          <a:stretch/>
        </p:blipFill>
        <p:spPr>
          <a:xfrm>
            <a:off x="7238880" y="25909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6" descr="factory_silhouette_smoking_md_wht.gif (5245 bytes)"/>
          <p:cNvPicPr/>
          <p:nvPr/>
        </p:nvPicPr>
        <p:blipFill>
          <a:blip r:embed="rId2"/>
          <a:stretch/>
        </p:blipFill>
        <p:spPr>
          <a:xfrm>
            <a:off x="762120" y="3657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8" descr="transpcarro7.gif (9709 bytes)"/>
          <p:cNvPicPr/>
          <p:nvPr/>
        </p:nvPicPr>
        <p:blipFill>
          <a:blip r:embed="rId3"/>
          <a:stretch/>
        </p:blipFill>
        <p:spPr>
          <a:xfrm>
            <a:off x="7696080" y="4724280"/>
            <a:ext cx="1157400" cy="129564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21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2" descr="logoIES"/>
          <p:cNvPicPr/>
          <p:nvPr/>
        </p:nvPicPr>
        <p:blipFill>
          <a:blip r:embed="rId4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6"/>
          <p:cNvSpPr/>
          <p:nvPr/>
        </p:nvSpPr>
        <p:spPr>
          <a:xfrm>
            <a:off x="533520" y="6019920"/>
            <a:ext cx="3429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8001000" y="68544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7772400" y="83808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04920" y="1447920"/>
            <a:ext cx="6553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7.- CONTAMINACIÓN ATMOSF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 rot="10639800">
            <a:off x="7466760" y="10663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7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533520" y="6019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PROBLEMAS AMBI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"/>
          <p:cNvSpPr/>
          <p:nvPr/>
        </p:nvSpPr>
        <p:spPr>
          <a:xfrm>
            <a:off x="380880" y="2057400"/>
            <a:ext cx="71629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FECTO INVERNADER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 La elevación del porcentajes de CO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mosférico  provoca el calentamiento global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aneta que ocasionará un cambio climátic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9"/>
          <p:cNvSpPr/>
          <p:nvPr/>
        </p:nvSpPr>
        <p:spPr>
          <a:xfrm>
            <a:off x="609480" y="3348000"/>
            <a:ext cx="723924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LLUVIA ÁCID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 La emisión a la atmósfera de óxidos de azuf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nitrógeno al contacto con el agua provoca l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ción  de ácidos que dañan la vegetació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609480" y="4572000"/>
            <a:ext cx="70866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APA DE OZO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 La emisión de CFC destruye el oz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mosférico con lo que aumenta la cantidad de rad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.V. que provoca mutaciones en lo seres viv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2" descr="logoIES"/>
          <p:cNvPicPr/>
          <p:nvPr/>
        </p:nvPicPr>
        <p:blipFill>
          <a:blip r:embed="rId1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4" descr="jjklj.gif (14146 bytes)"/>
          <p:cNvPicPr/>
          <p:nvPr/>
        </p:nvPicPr>
        <p:blipFill>
          <a:blip r:embed="rId2"/>
          <a:stretch/>
        </p:blipFill>
        <p:spPr>
          <a:xfrm>
            <a:off x="7848720" y="20574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6" descr="thwea02.gif (2659 bytes)"/>
          <p:cNvPicPr/>
          <p:nvPr/>
        </p:nvPicPr>
        <p:blipFill>
          <a:blip r:embed="rId3"/>
          <a:stretch/>
        </p:blipFill>
        <p:spPr>
          <a:xfrm>
            <a:off x="7772400" y="3352680"/>
            <a:ext cx="1047600" cy="75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8" descr="OzzyOzone"/>
          <p:cNvPicPr/>
          <p:nvPr/>
        </p:nvPicPr>
        <p:blipFill>
          <a:blip r:embed="rId4"/>
          <a:stretch/>
        </p:blipFill>
        <p:spPr>
          <a:xfrm>
            <a:off x="7620120" y="4648320"/>
            <a:ext cx="1019160" cy="1133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2819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ÍNDICE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1.- </a:t>
            </a:r>
            <a:r>
              <a:rPr b="0" lang="es-ES" sz="3800" spc="-1" strike="noStrike" u="sng">
                <a:solidFill>
                  <a:srgbClr val="990033"/>
                </a:solidFill>
                <a:uFillTx/>
                <a:latin typeface="Times New Roman"/>
                <a:hlinkClick r:id="rId1" action="ppaction://hlinksldjump"/>
              </a:rPr>
              <a:t>Formación de la atmósf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85800" y="5105520"/>
            <a:ext cx="6553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7.- </a:t>
            </a:r>
            <a:r>
              <a:rPr b="0" lang="es-ES" sz="3800" spc="-1" strike="noStrike" u="sng">
                <a:solidFill>
                  <a:srgbClr val="990033"/>
                </a:solidFill>
                <a:uFillTx/>
                <a:latin typeface="Times New Roman"/>
                <a:hlinkClick r:id="rId2" action="ppaction://hlinksldjump"/>
              </a:rPr>
              <a:t>Contaminación atmosféric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685800" y="297180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3.- </a:t>
            </a:r>
            <a:r>
              <a:rPr b="0" lang="es-ES" sz="3800" spc="-1" strike="noStrike" u="sng">
                <a:solidFill>
                  <a:srgbClr val="990033"/>
                </a:solidFill>
                <a:uFillTx/>
                <a:latin typeface="Times New Roman"/>
                <a:hlinkClick r:id="rId3" action="ppaction://hlinksldjump"/>
              </a:rPr>
              <a:t>Capas de la  atmósfera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85800" y="3505320"/>
            <a:ext cx="5257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4.- </a:t>
            </a:r>
            <a:r>
              <a:rPr b="0" lang="es-ES" sz="3800" spc="-1" strike="noStrike" u="sng">
                <a:solidFill>
                  <a:srgbClr val="990033"/>
                </a:solidFill>
                <a:uFillTx/>
                <a:latin typeface="Times New Roman"/>
                <a:hlinkClick r:id="rId4" action="ppaction://hlinksldjump"/>
              </a:rPr>
              <a:t>Atmósfera y vi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85800" y="40384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5.- </a:t>
            </a:r>
            <a:r>
              <a:rPr b="0" lang="es-ES" sz="3800" spc="-1" strike="noStrike" u="sng">
                <a:solidFill>
                  <a:srgbClr val="990033"/>
                </a:solidFill>
                <a:uFillTx/>
                <a:latin typeface="Times New Roman"/>
                <a:hlinkClick r:id="rId5" action="ppaction://hlinksldjump"/>
              </a:rPr>
              <a:t>Tiempo atmosféric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685800" y="4572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6.- </a:t>
            </a:r>
            <a:r>
              <a:rPr b="0" lang="es-ES" sz="3800" spc="-1" strike="noStrike" u="sng">
                <a:solidFill>
                  <a:srgbClr val="990033"/>
                </a:solidFill>
                <a:uFillTx/>
                <a:latin typeface="Times New Roman"/>
                <a:hlinkClick r:id="rId6" action="ppaction://hlinksldjump"/>
              </a:rPr>
              <a:t>Fenómenos atmosféric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85800" y="24382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2.- </a:t>
            </a:r>
            <a:r>
              <a:rPr b="0" lang="es-ES" sz="3800" spc="-1" strike="noStrike" u="sng">
                <a:solidFill>
                  <a:srgbClr val="990033"/>
                </a:solidFill>
                <a:uFillTx/>
                <a:latin typeface="Times New Roman"/>
                <a:hlinkClick r:id="rId7" action="ppaction://hlinksldjump"/>
              </a:rPr>
              <a:t>La atmósfera actu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>
            <a:hlinkClick r:id="" action="ppaction://hlinkshowjump?jump=nextslide"/>
          </p:cNvPr>
          <p:cNvSpPr/>
          <p:nvPr/>
        </p:nvSpPr>
        <p:spPr>
          <a:xfrm>
            <a:off x="84582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logoIES"/>
          <p:cNvPicPr/>
          <p:nvPr/>
        </p:nvPicPr>
        <p:blipFill>
          <a:blip r:embed="rId8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La atmósfera es la capa de gases que envuelve la Tierra hasta una altura de 1.000 K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09480" y="380880"/>
            <a:ext cx="2667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9144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1.- FORMACIÓN  DE 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atmosfera"/>
          <p:cNvPicPr/>
          <p:nvPr/>
        </p:nvPicPr>
        <p:blipFill>
          <a:blip r:embed="rId1"/>
          <a:stretch/>
        </p:blipFill>
        <p:spPr>
          <a:xfrm>
            <a:off x="4114800" y="259092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09480" y="2819520"/>
            <a:ext cx="34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0033"/>
                </a:solidFill>
                <a:latin typeface="Verdana"/>
              </a:rPr>
              <a:t>Es una capa esencial para la vida en este planeta ya que contiene el oxígeno (necesario para la respiración) y el dióxido de carbono (necesario para la fotosíntesi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7772400" y="914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>
            <a:hlinkClick r:id="rId2" action="ppaction://hlinksldjump"/>
          </p:cNvPr>
          <p:cNvSpPr/>
          <p:nvPr/>
        </p:nvSpPr>
        <p:spPr>
          <a:xfrm rot="10639800">
            <a:off x="7466760" y="10663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>
            <a:hlinkClick r:id="" action="ppaction://hlinkshowjump?jump=nextslide"/>
          </p:cNvPr>
          <p:cNvSpPr/>
          <p:nvPr/>
        </p:nvSpPr>
        <p:spPr>
          <a:xfrm>
            <a:off x="84582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" descr="logoIES"/>
          <p:cNvPicPr/>
          <p:nvPr/>
        </p:nvPicPr>
        <p:blipFill>
          <a:blip r:embed="rId3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7"/>
          <p:cNvSpPr/>
          <p:nvPr/>
        </p:nvSpPr>
        <p:spPr>
          <a:xfrm>
            <a:off x="762120" y="5638680"/>
            <a:ext cx="3276360" cy="457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09480" y="380880"/>
            <a:ext cx="2667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09480" y="9144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1.- LA ATMOSFERA 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7772400" y="914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>
            <a:hlinkClick r:id="rId1" action="ppaction://hlinksldjump"/>
          </p:cNvPr>
          <p:cNvSpPr/>
          <p:nvPr/>
        </p:nvSpPr>
        <p:spPr>
          <a:xfrm rot="10639800">
            <a:off x="7466760" y="10663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>
            <a:hlinkClick r:id="" action="ppaction://hlinkshowjump?jump=nextslide"/>
          </p:cNvPr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685800" y="175248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atmósfera actual está compuesta por una mezcla de g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78% de Nitr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1 % Oxi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 % Otros g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 argón, dióxido de carbo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por de agua,…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4" descr=""/>
          <p:cNvPicPr/>
          <p:nvPr/>
        </p:nvPicPr>
        <p:blipFill>
          <a:blip r:embed="rId2"/>
          <a:stretch/>
        </p:blipFill>
        <p:spPr>
          <a:xfrm>
            <a:off x="4467240" y="2286000"/>
            <a:ext cx="4600440" cy="3262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685800" y="426708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lquier cambio en estos porcentajes puede provocar efectos devas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762120" y="56386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EFECTO INVERNAD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0" descr="logoIES"/>
          <p:cNvPicPr/>
          <p:nvPr/>
        </p:nvPicPr>
        <p:blipFill>
          <a:blip r:embed="rId4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360" y="144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La atmósfera ha ido cambiando a lo largo de la historia de la Tier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09480" y="380880"/>
            <a:ext cx="2667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09480" y="9144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2.- La atmósfera 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772400" y="914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>
            <a:hlinkClick r:id="rId1" action="ppaction://hlinksldjump"/>
          </p:cNvPr>
          <p:cNvSpPr/>
          <p:nvPr/>
        </p:nvSpPr>
        <p:spPr>
          <a:xfrm rot="10639800">
            <a:off x="7466760" y="10663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1409760" cy="1305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3"/>
          <a:stretch/>
        </p:blipFill>
        <p:spPr>
          <a:xfrm>
            <a:off x="1981080" y="3048120"/>
            <a:ext cx="1400400" cy="1285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6"/>
          <p:cNvSpPr/>
          <p:nvPr/>
        </p:nvSpPr>
        <p:spPr>
          <a:xfrm>
            <a:off x="1676520" y="205740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atmósfera se formó hace  4.500 m.a. a partir de los gases expulsados por los volcanes</a:t>
            </a: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 (CO , CO y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NH 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7315200" y="251460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7391520" y="29098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"/>
          <p:cNvPicPr/>
          <p:nvPr/>
        </p:nvPicPr>
        <p:blipFill>
          <a:blip r:embed="rId4"/>
          <a:stretch/>
        </p:blipFill>
        <p:spPr>
          <a:xfrm>
            <a:off x="3124080" y="3581280"/>
            <a:ext cx="1409760" cy="1333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4267080" y="4191120"/>
            <a:ext cx="1419480" cy="128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6"/>
          <a:stretch/>
        </p:blipFill>
        <p:spPr>
          <a:xfrm>
            <a:off x="5334120" y="4724280"/>
            <a:ext cx="1400040" cy="130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7"/>
          <a:stretch/>
        </p:blipFill>
        <p:spPr>
          <a:xfrm>
            <a:off x="6477120" y="5334120"/>
            <a:ext cx="1409760" cy="13046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9"/>
          <p:cNvSpPr/>
          <p:nvPr/>
        </p:nvSpPr>
        <p:spPr>
          <a:xfrm>
            <a:off x="4800600" y="35053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 enfriarse el vapor de agua se originaron los mares y océ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228600" y="541008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os primeros organismos, al hacer la fotosíntesis, disminuyen el nivel de  CO y aumentan el de Oxige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1127160" y="624852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2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5" descr="logoIES"/>
          <p:cNvPicPr/>
          <p:nvPr/>
        </p:nvPicPr>
        <p:blipFill>
          <a:blip r:embed="rId8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43400" y="182844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Arial"/>
              </a:rPr>
              <a:t>TROPOSFERA</a:t>
            </a: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 : </a:t>
            </a: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Hasta 12 Km</a:t>
            </a:r>
            <a:br>
              <a:rPr sz="1800"/>
            </a:b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                  fenómenos atmosféricos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7772400" y="914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457200" y="12952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3.- Capas de 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>
            <a:hlinkClick r:id="rId1" action="ppaction://hlinksldjump"/>
          </p:cNvPr>
          <p:cNvSpPr/>
          <p:nvPr/>
        </p:nvSpPr>
        <p:spPr>
          <a:xfrm rot="10639800">
            <a:off x="7466760" y="10663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7" descr="atmosfera_cap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9051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8"/>
          <p:cNvSpPr/>
          <p:nvPr/>
        </p:nvSpPr>
        <p:spPr>
          <a:xfrm>
            <a:off x="4267080" y="2666880"/>
            <a:ext cx="449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Arial"/>
              </a:rPr>
              <a:t>ESTRATOSFERA</a:t>
            </a: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 : </a:t>
            </a: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Hasta 50 Km</a:t>
            </a:r>
            <a:br>
              <a:rPr sz="1800"/>
            </a:b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                           </a:t>
            </a:r>
            <a:r>
              <a:rPr b="0" lang="es-ES" sz="1800" spc="-1" strike="noStrike" u="sng">
                <a:solidFill>
                  <a:srgbClr val="990033"/>
                </a:solidFill>
                <a:uFillTx/>
                <a:latin typeface="Verdana"/>
                <a:hlinkClick r:id="rId4"/>
              </a:rPr>
              <a:t>Capa de oz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4267080" y="3505320"/>
            <a:ext cx="449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Arial"/>
              </a:rPr>
              <a:t>MESOSFERA</a:t>
            </a: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 : </a:t>
            </a: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Hasta 80 Km</a:t>
            </a:r>
            <a:br>
              <a:rPr sz="1800"/>
            </a:b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                       </a:t>
            </a:r>
            <a:r>
              <a:rPr b="0" lang="es-ES" sz="1800" spc="-1" strike="noStrike" u="sng">
                <a:solidFill>
                  <a:srgbClr val="990033"/>
                </a:solidFill>
                <a:uFillTx/>
                <a:latin typeface="Verdana"/>
                <a:hlinkClick r:id="rId5"/>
              </a:rPr>
              <a:t>estrellas fug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4267080" y="4343400"/>
            <a:ext cx="449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Arial"/>
              </a:rPr>
              <a:t>TERMOSFERA</a:t>
            </a: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 : </a:t>
            </a: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Hasta 600 Km</a:t>
            </a:r>
            <a:br>
              <a:rPr sz="1800"/>
            </a:b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                        </a:t>
            </a:r>
            <a:r>
              <a:rPr b="0" lang="es-ES" sz="1800" spc="-1" strike="noStrike" u="sng">
                <a:solidFill>
                  <a:srgbClr val="990033"/>
                </a:solidFill>
                <a:uFillTx/>
                <a:latin typeface="Verdana"/>
                <a:hlinkClick r:id="rId6"/>
              </a:rPr>
              <a:t>Auroras </a:t>
            </a:r>
            <a:r>
              <a:rPr b="0" lang="es-ES" sz="1800" spc="-1" strike="noStrike" u="sng">
                <a:solidFill>
                  <a:srgbClr val="990033"/>
                </a:solidFill>
                <a:uFillTx/>
                <a:latin typeface="Verdana"/>
                <a:hlinkClick r:id="rId7"/>
              </a:rPr>
              <a:t>bore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4343400" y="502920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Arial"/>
              </a:rPr>
              <a:t>EXOSFERA</a:t>
            </a: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 : </a:t>
            </a:r>
            <a:r>
              <a:rPr b="0" lang="es-ES" sz="1800" spc="-1" strike="noStrike">
                <a:solidFill>
                  <a:srgbClr val="330033"/>
                </a:solidFill>
                <a:latin typeface="Verdana"/>
              </a:rPr>
              <a:t>Hasta 1000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2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5" descr="logoIES"/>
          <p:cNvPicPr/>
          <p:nvPr/>
        </p:nvPicPr>
        <p:blipFill>
          <a:blip r:embed="rId8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7772400" y="914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57200" y="1371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4.- ATMÓSFERA Y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>
            <a:hlinkClick r:id="rId1" action="ppaction://hlinksldjump"/>
          </p:cNvPr>
          <p:cNvSpPr/>
          <p:nvPr/>
        </p:nvSpPr>
        <p:spPr>
          <a:xfrm rot="10639800">
            <a:off x="7466760" y="10663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3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1676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El </a:t>
            </a:r>
            <a:r>
              <a:rPr b="1" lang="es-ES" sz="2000" spc="-1" strike="noStrike">
                <a:solidFill>
                  <a:srgbClr val="ff0000"/>
                </a:solidFill>
                <a:latin typeface="Verdana"/>
              </a:rPr>
              <a:t>oxígeno</a:t>
            </a: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 juega un papel importante en los seres vivos. Es imprescindible para la respiración de todas las células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685800" y="2895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El </a:t>
            </a:r>
            <a:r>
              <a:rPr b="1" lang="es-ES" sz="2000" spc="-1" strike="noStrike">
                <a:solidFill>
                  <a:srgbClr val="ff0000"/>
                </a:solidFill>
                <a:latin typeface="Verdana"/>
              </a:rPr>
              <a:t>ozono</a:t>
            </a: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  es importante porque protege de la radiación ultravio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85800" y="3886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El </a:t>
            </a:r>
            <a:r>
              <a:rPr b="1" lang="es-ES" sz="2000" spc="-1" strike="noStrike">
                <a:solidFill>
                  <a:srgbClr val="ff0000"/>
                </a:solidFill>
                <a:latin typeface="Verdana"/>
              </a:rPr>
              <a:t>nitrógeno</a:t>
            </a: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  juega un papel importante ya que forma parte de las proteínas de los seres v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685800" y="5257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El </a:t>
            </a:r>
            <a:r>
              <a:rPr b="1" lang="es-ES" sz="2000" spc="-1" strike="noStrike">
                <a:solidFill>
                  <a:srgbClr val="ff0000"/>
                </a:solidFill>
                <a:latin typeface="Verdana"/>
              </a:rPr>
              <a:t>dióxido de carbono</a:t>
            </a: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  es el gas necesario para realizar la fotosínt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6248520" y="2666880"/>
            <a:ext cx="18288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RESPI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6248520" y="3733920"/>
            <a:ext cx="14475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OZ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5562720" y="5029200"/>
            <a:ext cx="327636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CICLO DEL NITRÓ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3" descr="logoIES"/>
          <p:cNvPicPr/>
          <p:nvPr/>
        </p:nvPicPr>
        <p:blipFill>
          <a:blip r:embed="rId5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7772400" y="9144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57200" y="1371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5.- TIEMPO ATMOSFÉ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>
            <a:hlinkClick r:id="rId1" action="ppaction://hlinksldjump"/>
          </p:cNvPr>
          <p:cNvSpPr/>
          <p:nvPr/>
        </p:nvSpPr>
        <p:spPr>
          <a:xfrm rot="10639800">
            <a:off x="7466760" y="10663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762120" y="213372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METEREOLOG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 Estudia la atmósfera y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nómenos meteor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838080" y="3352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TIEMPO ATMOSFÉ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2971800" y="3352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junto de características atmosféricas en un lugar y momento conc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952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L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2133720" y="4952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 de las condiciones atmosféricas medidas durante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2" descr="metereolog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1981080"/>
            <a:ext cx="125712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4" descr="meteosa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3743280"/>
            <a:ext cx="1523880" cy="12859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6"/>
          <p:cNvSpPr/>
          <p:nvPr/>
        </p:nvSpPr>
        <p:spPr>
          <a:xfrm>
            <a:off x="6172200" y="5486400"/>
            <a:ext cx="11430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6248520" y="54864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BI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8"/>
          <p:cNvSpPr/>
          <p:nvPr/>
        </p:nvSpPr>
        <p:spPr>
          <a:xfrm>
            <a:off x="8001000" y="685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9" descr="logoIES"/>
          <p:cNvPicPr/>
          <p:nvPr/>
        </p:nvPicPr>
        <p:blipFill>
          <a:blip r:embed="rId7"/>
          <a:stretch/>
        </p:blipFill>
        <p:spPr>
          <a:xfrm>
            <a:off x="7620120" y="66600"/>
            <a:ext cx="1314360" cy="69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in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0" y="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ES La Corredoria   Ovi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33520" y="22860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7772400" y="6858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57200" y="13716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Verdana"/>
              </a:rPr>
              <a:t>5.- TIEMPO ATMOSFÉ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>
            <a:hlinkClick r:id="rId1" action="ppaction://hlinksldjump"/>
          </p:cNvPr>
          <p:cNvSpPr/>
          <p:nvPr/>
        </p:nvSpPr>
        <p:spPr>
          <a:xfrm rot="10639800">
            <a:off x="7466760" y="837720"/>
            <a:ext cx="381240" cy="381240"/>
          </a:xfrm>
          <a:custGeom>
            <a:avLst/>
            <a:gdLst>
              <a:gd name="textAreaLeft" fmla="*/ 47520 w 381240"/>
              <a:gd name="textAreaRight" fmla="*/ 333720 w 3812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7">
            <a:hlinkClick r:id="" action="ppaction://hlinkshowjump?jump=nextslide"/>
          </p:cNvPr>
          <p:cNvSpPr/>
          <p:nvPr/>
        </p:nvSpPr>
        <p:spPr>
          <a:xfrm>
            <a:off x="853452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Es un medida de la cantidad de calor que tiene el aire.</a:t>
            </a:r>
            <a:br>
              <a:rPr sz="1800"/>
            </a:b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Es una característica muy importante para los seres vivos.</a:t>
            </a:r>
            <a:br>
              <a:rPr sz="1800"/>
            </a:b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Se mide con el </a:t>
            </a:r>
            <a:r>
              <a:rPr b="1" lang="es-ES" sz="2000" spc="-1" strike="noStrike">
                <a:solidFill>
                  <a:srgbClr val="ff0000"/>
                </a:solidFill>
                <a:latin typeface="Verdana"/>
              </a:rPr>
              <a:t>TERMÓMETRO</a:t>
            </a: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914400" y="1905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0" descr="termometr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3276720"/>
            <a:ext cx="1969920" cy="23526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21"/>
          <p:cNvSpPr/>
          <p:nvPr/>
        </p:nvSpPr>
        <p:spPr>
          <a:xfrm>
            <a:off x="914400" y="57913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ómo funciona un termómet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3" descr="13b6d4c0f45763911c7e6daa32d9afd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3657600"/>
            <a:ext cx="2017800" cy="28195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4"/>
          <p:cNvSpPr/>
          <p:nvPr/>
        </p:nvSpPr>
        <p:spPr>
          <a:xfrm>
            <a:off x="5486400" y="2971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mómetro máximas y mín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in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ma</dc:creator>
  <dc:description/>
  <dc:language>en-US</dc:language>
  <cp:lastModifiedBy>inma</cp:lastModifiedBy>
  <dcterms:modified xsi:type="dcterms:W3CDTF">2015-05-04T21:11:0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